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2F79-08C5-4DCE-BBE6-36FD580EB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2AF2-59E8-4A64-85C4-590F96D86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BB8F-1F67-409B-8697-A5A32B98F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5643-6578-4639-8C14-ECD7AF100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1250-93A8-4E1B-8EBE-9A2D3962B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BD25-8E33-4AF3-BE06-7A4C6F322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F6C5-2902-48E3-967C-EA4347281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1375-8F68-4B9A-B88A-1424C3589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DD9E-35E4-4A14-9257-A2F9F9E8E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3B91-A4D7-4B66-9BFF-3A04B988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69CC-A1D2-4519-96AF-C37FCD6A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7AD1-6896-49D9-A533-4803847F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A21DB-AE3E-4767-8684-F31FFE397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4598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6T01:28:16Z</dcterms:created>
  <dc:creator> </dc:creator>
  <dc:description/>
  <dc:language>en-US</dc:language>
  <cp:lastModifiedBy> </cp:lastModifiedBy>
  <dcterms:modified xsi:type="dcterms:W3CDTF">2009-03-06T01:28:16Z</dcterms:modified>
  <cp:revision>1</cp:revision>
  <dc:subject/>
  <dc:title>Slide 1</dc:title>
</cp:coreProperties>
</file>